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793E-BEF6-49EA-A00F-3A21B7E4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A799-BC6F-4877-BBA5-949BA11A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F1E3-CDD2-49E0-84CC-7FD5AA6A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727D-C02E-4D3F-8ADC-678CCB82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F9A6-254D-4056-B908-79B2CDF3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0C35-50DB-4A25-9AE3-9BD149ED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4BC6-E7CE-49A3-931F-AD9BC022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5AEA-DC3E-474C-96CA-F3451C1D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2F7F-71C4-40D7-BAC1-A50285FE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12E6-1717-40C9-A8FE-ECC44446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5E77-4151-4F2B-8955-6C676A1B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1631-C732-4EEC-9152-4B95DA6F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C0B8-98E5-4776-909B-D9B08C3B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2EB8-AA00-4C86-9B8D-7F2515C4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90F7-3C6B-49E3-A78B-42493000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E35A-04BE-40F8-90AE-E7268AB4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D3F2-4A3B-4F60-AFDE-A9583995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5FA7-C458-448C-A87F-65444750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30E6-C8D6-4EFF-AC97-FCD1238A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3543-8D53-4C32-9193-040087CB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CAC5-295F-4C28-8CDB-1FF89D75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82C5-CDD2-459C-9B49-7F01052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BF313-1B39-4FA7-83EC-05A11A5A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BAC4-349D-4ED7-B139-C9148C70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F4B9-48A8-4E45-8982-BA89179E7B4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715F-95EB-475A-8CD2-20A64C40700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2 (53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и Теб, о, Боже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-близ' да съ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 при Теб пок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ерил съ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се моля а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непрестанен глас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, о, Боже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-близ' да съ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Ако съм бежанец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чужда стра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т дома далеч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камък сп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в сънищата м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ицето Си яв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, о, Боже м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-близ' да съ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И кога кат' с крил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 възнес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 Слънце и Лу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лет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бата ми ще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що и песент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, о, Боже м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но при Теб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07:39Z</dcterms:modified>
  <cp:revision>114</cp:revision>
  <dc:subject/>
  <dc:title>Slide 1</dc:title>
</cp:coreProperties>
</file>